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FF0-4BBF-4421-8BF4-F84CD66E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C25-1280-4B18-A30D-E04D3C15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970-F81F-4B36-8D41-5CCB4EBA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B10-1DF6-43D9-9D40-15C4CECC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D72-6C6B-4108-B90A-9F672FF7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1AD-58D5-40C6-B742-BA815D6B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4E3-70D1-4F1D-BC3D-609B2A6E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C67-2510-400F-9A1A-BD0EB3F6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BDF-C5D3-4A4C-B6C9-28A61F6A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4A7-BF0D-4DDB-B0C6-C891DDE1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26D-B2A8-46AB-BF42-D094005C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4BC-0F6F-4200-9071-B8162BA3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E99-FE15-49C4-9DAD-984DE6290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stitutional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fulfilled same roles as in Medieval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, pilgrimages, baptisms, marriag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keeping, charity, orphanage,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or was responsible for all churc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(post-15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stant Re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es and monarchs heads of “territorial”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 rules, careful selection of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eau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rchs increased state control over church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ss papal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atholic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Control over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politically influential, removed from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is XV  removes Jesuits, takes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e abolishes Jesuits 17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gy should contribute more to soci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ph II of Austria “ Edict on Idle Institu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lished contemplativ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nly teach, nurse, practic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k money from dissolved monas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47:53Z</dcterms:created>
  <dc:creator>MNS</dc:creator>
  <dc:description/>
  <dc:language>en-US</dc:language>
  <cp:lastModifiedBy>MNS</cp:lastModifiedBy>
  <dcterms:modified xsi:type="dcterms:W3CDTF">2009-12-04T14:15:05Z</dcterms:modified>
  <cp:revision>12</cp:revision>
  <dc:subject/>
  <dc:title>The Institutional Church</dc:title>
</cp:coreProperties>
</file>